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type.wav" ContentType="audio/x-wav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CBF-B973-40A7-B848-876A79B7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B3F-5A64-4ACA-9B7E-8BD2305B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CCBE-F3C0-4C42-9383-FD1A4D21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A0BC-3A68-42BD-8EF7-8238803C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016-1D85-42EE-BE3E-4936A785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C2E-B3FE-4A20-8096-114FA99E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1B27-8ADB-4F73-B282-33954639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C25-715D-4CCC-B88A-88E8301E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BAC-D35C-4530-B559-A4911AD9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F5D-BDF9-4D6C-B49F-31AAEF15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79A-5068-4DCD-9EB9-79051A39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549-547A-4BEC-B659-2E11C468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89AD-A957-43B5-B6FA-6EDAA58CB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8480" y="5019840"/>
            <a:ext cx="1595520" cy="1838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82260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riv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down, as simply as possible, the perimeter of each of the following shap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b)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3789360"/>
            <a:ext cx="20876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3355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800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40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3789360"/>
            <a:ext cx="2016000" cy="1008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9080" y="4797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a +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7440" y="4005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3800" y="3355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a +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7380000" y="3789000"/>
            <a:ext cx="934920" cy="136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21440" y="422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01080" y="422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51560" y="3357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k -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ng an Equ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Let Jim’s age be j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What is his Grandad’s age in terms of j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Correct! </a:t>
            </a: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6600" spc="-1" strike="noStrike">
                <a:solidFill>
                  <a:srgbClr val="ffffff"/>
                </a:solidFill>
                <a:latin typeface="Tahoma"/>
              </a:rPr>
              <a:t>4j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ng an Equ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can we express the sum of their ages in an equati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 + 4j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= 10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5j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= 105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= 2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71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104040" rIns="10404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So, what are their ages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Jim: 21 year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Jim’s Grandad: 4 × 21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= 84 yea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ng an Equ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 think of a number, multiply it by five, add seven to the result and get 22. What is my numb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ng an Equ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 the starting number be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ltiplying it by 5 gives 5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 Adding 7 gives 5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+ 7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ick Ques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580760"/>
            <a:ext cx="8207280" cy="25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How many beans make 5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5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ivity Two - Exerci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ma is seven times as old as her grandson is now. If their ages add up to 96, how old is Grandm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um of two consecutive odd numbers is 152. Find the numb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ivity Tw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 weighs 7 kg more than his brother. Their total weight is 71 kg. How much does Mark weig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oebe’s Auntie Ann is three times as old as Phoebe. The sum of their ages is 52. Find their 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ivity Tw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5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think of a number, add 8 to it, double the answer, subtract 10 and I end up with 1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number I first thought of wa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rite down an equation that involve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1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ve the equation to find the number I first thought o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riv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down the area of each rectang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3716280"/>
            <a:ext cx="1728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3716280"/>
            <a:ext cx="1224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4000" y="3429000"/>
            <a:ext cx="93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3284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400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3284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378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292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 MUST know how to construct and solve a simple algebraic equat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en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nk of a number but don’t tell anyo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uble that number. Then add on 1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lve the answer, take away the number first thought o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en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nk of a number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uble the number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d on 10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+ 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alve the answer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+ 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away the first number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+ 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5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en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w make up your own trick and try it out on the person next to you…what number will they end up o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en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 would you explain how to construct an equation to someone who didn’t know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geb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ting 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496000" cy="3240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llenge: If I gave you an equation with two parts would you know how to solve it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let’s see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 you solve thes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dd-numbered Ch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3f – 10 = 2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ven-numbered Ch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5f + 9 = 29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did you solve thes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dd-numbered Ch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3f – 10 = 2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 = 4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ven-numbered Ch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5f + 9 = 29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 = 4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ctivity One – 3 mi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to the person next to you how you solved your equation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you got the answer wrong, explain to your partner what you did and see if they can show you where you went wrong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’s lesson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tivity O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structing an equ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tivity Tw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ng an Equ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Jim’s grandad is four time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older than Ji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Their ages add up to 105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What are their ag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59640" y="1125360"/>
            <a:ext cx="20653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6:15:29Z</dcterms:created>
  <dc:creator>Bruno Reddy</dc:creator>
  <dc:description/>
  <dc:language>en-US</dc:language>
  <cp:lastModifiedBy>Bruno Reddy</cp:lastModifiedBy>
  <dcterms:modified xsi:type="dcterms:W3CDTF">2004-12-14T11:19:44Z</dcterms:modified>
  <cp:revision>20</cp:revision>
  <dc:subject/>
  <dc:title>Arrival</dc:title>
</cp:coreProperties>
</file>